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27D-BBE2-432D-8C68-FE793BC9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C37-4EAB-4EE2-BD8E-9CB1162C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124-4173-40FB-B9BC-B98D1312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348-B9E6-440A-A3FA-642B1A50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6258-50DE-43D7-8473-F98AA6DE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F7E7-DD72-4FBA-BD5B-A3536BAA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4866-5218-4393-B743-23D28B3A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4DE8-234B-4586-AB08-ECD328C5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7828-1304-46C1-8A31-95620763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395A-407E-4279-A675-86BF5C2E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2964-2D98-4F57-8D33-263708A2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4E4-E685-40C3-8082-0873F113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2142-D355-4445-91D2-2D3CAF23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12D6-851B-4996-BF0E-661A9A01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949D-5A77-45F9-B2DE-270B864F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66EA-658F-47CF-9827-B38B9753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80CF-380B-41AA-B6DB-543187E3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CFE-5B2B-4260-9941-D9D030F6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965-D9DE-4129-B8F9-6FF89FBC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699-6871-4928-8557-37966C18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AFC-5032-4438-8BC6-38C75093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2D5-B235-41CE-8359-85B97130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77E-08AE-4C77-9AF4-B7F6D3C8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0FA-5ECE-4C85-9E19-0C075D03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6D4C-62DE-4EE8-B44D-48A7431BF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B1B8-6E75-4DDF-B714-B917DA158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ncefalus.com/wp-content/uploads/2008/09/resources_money.jpg&amp;imgrefurl=http://encefalus.com/general/new-micro-economic-paradigm-integration-psychology/&amp;usg=__8lh-7xcaOnTxt8mabKP9DEhkFHY=&amp;h=420&amp;w=550&amp;sz=56&amp;hl=en&amp;start=4&amp;itbs=1&amp;tbnid=I0REo8PhM2uWbM:&amp;tbnh=102&amp;tbnw=133&amp;prev=/images%3Fq%3Dmoney%26hl%3Den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.treehugger.com/images/2007/10/24/students%2520at%2520comps.jpg&amp;imgrefurl=http://www.treehugger.com/files/2007/06/software_helps.php&amp;usg=__qVCMNPgWgthzw0d6KNYQxQyYd5o=&amp;h=299&amp;w=468&amp;sz=28&amp;hl=en&amp;start=55&amp;itbs=1&amp;tbnid=aaxjXKIxWPXxNM:&amp;tbnh=82&amp;tbnw=128&amp;prev=/images%3Fq%3Dstudents%2527%26start%3D40%26hl%3Den%26sa%3DN%26gbv%3D2%26ndsp%3D20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math.hmc.edu/~tucker/math104/graphics/thinking-cap.gif&amp;imgrefurl=http://www.math.hmc.edu/~tucker/math104/resources.html&amp;usg=__LRJE8jEsslG8D2_N47k25wxAS8M=&amp;h=637&amp;w=550&amp;sz=39&amp;hl=en&amp;start=2&amp;itbs=1&amp;tbnid=WITDeUs3FxbG3M:&amp;tbnh=137&amp;tbnw=118&amp;prev=/images%3Fq%3Dthinking%26hl%3Den%26sa%3DG%26gbv%3D2%26tbs%3Disch: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3.bp.blogspot.com/_tlMNdw356S4/SZrZzGSyQnI/AAAAAAAAAAw/le3Ksx5tP2U/s320/self_assessment.gif&amp;imgrefurl=http://sakoviciuter.blogspot.com/2009/02/self-assessment-of-success-in-learning.html&amp;usg=__8_eHBIZk5Ot9EIt4RAGkLHPnULA=&amp;h=272&amp;w=282&amp;sz=4&amp;hl=en&amp;start=18&amp;itbs=1&amp;tbnid=1MnBf3f2MpRR1M:&amp;tbnh=110&amp;tbnw=114&amp;prev=/images%3Fq%3Dassessment%26hl%3Den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Our Money –</a:t>
            </a:r>
            <a:br>
              <a:rPr sz="4800"/>
            </a:b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Our Community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880" y="43430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Portfolio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rbara Strong and Maria R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81680" y="190512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907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37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4232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Black"/>
              </a:rPr>
              <a:t>Gauging Student Needs Assessmen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4479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can use the information from these assessments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362320"/>
            <a:ext cx="71629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cus on parts of the learning that students have prior misconceptions ab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lan activities in which they will answer their ques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97836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can use the information from these assessments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4876920"/>
            <a:ext cx="70102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adjust their communication skills within their collaborative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 goals for how to spend wisely and be respon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come proficient at counting money and making 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quests for Feedbac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about different kinds of technology that will motivate my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ways to get my students to do more higher-order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some strategies for helping students do projects from other tea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0400" y="5181480"/>
            <a:ext cx="1197000" cy="15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390760" y="1528920"/>
            <a:ext cx="4362480" cy="38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8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lack"/>
              </a:rPr>
              <a:t>Unit Summa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will study economics and correlate learning money. The students will then role play producers, sellers and consumers, by relating it to a real life situation of running a store. They will earn money by doing homework, attending school, and following the PBIS behavior conduct code. The students will determine if they should spend their hard earned money on a need or a want. They will create a  presentation about their learning, create an advertisement, and share it with an aud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Curriculum-Framing Question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Essential Question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money wor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4191120"/>
            <a:ext cx="2614320" cy="20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Curriculum-Framing Question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Unit Questio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good thing to spend money 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we get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3809880"/>
            <a:ext cx="1690560" cy="22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Curriculum-Framing Question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Content Ques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value of co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different ways can you make a dollar using different sets of co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you make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n I represent various amount s of money using decimals notation and symbols for cents and doll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you know the difference between a need and a wa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difference between a good and a servi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re the roles of producers and consum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importance of saving and using money you ea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people depend on each other for trad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8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 Black"/>
              </a:rPr>
              <a:t>Vision for Un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creating this unit, I want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out new methods to make economics relevant to my students’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of ways to involve my students more in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unit, I want my student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the importance of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echnology to communic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0"/>
            <a:ext cx="29257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ject Approach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my students work on this project, 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 the store to the real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e with peers on web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product that shows what they’ve lea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 their learning with a real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2880" y="5105520"/>
            <a:ext cx="15192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3851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lack"/>
              </a:rPr>
              <a:t>21</a:t>
            </a:r>
            <a:r>
              <a:rPr b="0" lang="en-US" sz="4400" spc="-1" strike="noStrike" baseline="30000">
                <a:solidFill>
                  <a:srgbClr val="333300"/>
                </a:solidFill>
                <a:latin typeface="Arial Black"/>
              </a:rPr>
              <a:t>st</a:t>
            </a:r>
            <a:r>
              <a:rPr b="0" lang="en-US" sz="4400" spc="-1" strike="noStrike">
                <a:solidFill>
                  <a:srgbClr val="333300"/>
                </a:solidFill>
                <a:latin typeface="Arial Black"/>
              </a:rPr>
              <a:t> Century Learn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develop higher-order and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 skills in this unit as th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33676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buClr>
                <a:srgbClr val="99ff6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Essential and Unit Questions to guide their analysis of economics and how to apply that knowledge to daily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99ff6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cate their ideas to an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99ff6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ct on their reading, writing, research, and thinking strategies, and modify and adapt them as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99ff6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project assessments to self-assess their work and give feedback to their p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5181480"/>
            <a:ext cx="1388880" cy="16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02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 Black"/>
              </a:rPr>
              <a:t>Gauging Student Needs Assessmen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1828800"/>
            <a:ext cx="6933960" cy="45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 CFQ’s to lear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udents’ concept of mon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knowledge of money and economics on Wordl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Senteo for comparing prior knowledge of money to completion of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ess 2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entury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perience writing for a real audience and use technology to enhance their 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ain self-assessment and self-direction skills that they will use and build on all year 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72000"/>
            <a:ext cx="1755720" cy="169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00:32:57Z</dcterms:created>
  <dc:creator>Judi Yost</dc:creator>
  <dc:description/>
  <dc:language>en-US</dc:language>
  <cp:lastModifiedBy>mrein</cp:lastModifiedBy>
  <dcterms:modified xsi:type="dcterms:W3CDTF">2010-08-24T19:08:33Z</dcterms:modified>
  <cp:revision>61</cp:revision>
  <dc:subject/>
  <dc:title>What can Romeo and Juliet Teach Us About Ourselves?</dc:title>
</cp:coreProperties>
</file>